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71C-AE44-4413-AA3F-B27D1B4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828-8A14-49CD-8F65-F3A823B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23-FAD2-4AD8-95FB-EE185839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822-6EBA-421C-B71D-A2D767CB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073-4A6D-46C4-A6BE-D530396F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00E-949B-44AD-84F3-7D158F4B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A2B-CCB5-4956-A8C4-1B261590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B30-5859-4E13-B6FF-066C03E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26F-DD4F-46FA-9316-7B8906B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E1B-B047-4CA0-84B4-B677D11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828-16BF-403E-A4A2-385806A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412-B9AF-4183-8798-E1DC9B7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B95-D01C-41E5-B68D-1472A7E20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048120" cy="11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احبيبي واحبيبي                        سُلّــمَ الموتُ إل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فتسلَّمنـا حياةً مـن جراحـات يديــ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كـلُّ ميتٍ عاد حيـاًّ والتقى الكلُّ لد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ـومَ أبطلتَ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المنايا بمواعـيدِ الحيــا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6576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ُّ حبٍّ قد تفانى مثلُ هذا في  حب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أيُّ ربٍ قد تجلـى مجدُه فوق صل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دهشةً بين البرايـا عجباً عند  الشع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هو في البيعةِ حقٌ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وســـلامٌ ولقـــ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9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80988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قادكَ الحبُّ إليَّ فتقلدْتَ 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وتحمَّلتَ لأَجلي غصَّةَ الموت  الره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ليتني أَقضي حياتي أُهرقُ العمرَ  سك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في وصاياك وأَحيا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بيـن أســـرارِ  الفــداء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11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حبيبي واحبي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أيُّ  حالٍ أنت ف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َن شجاك من مَناك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ا لذا الامرِ شب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يا حبيبي أيَّ ذنـبٍ      قد صنعت أو كر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نت مجهود  جريحٌ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ليس فيـكَ مــن شِف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886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كنتُ في البستان ليلاً والحشا منّي اضط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خِفتُ صلّيتُ الى أن عرقٌ مني انسكـ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قلتُ ربّي إن رأيتَ فادفعَنْ عنّي  العط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حزنُ نفسي فاق </a:t>
            </a:r>
            <a:r>
              <a:rPr b="1" lang="ar-SA" sz="3800" spc="-1" strike="noStrike">
                <a:solidFill>
                  <a:srgbClr val="ffffcc"/>
                </a:solidFill>
                <a:latin typeface="Arial"/>
                <a:cs typeface="Simplified Arabic"/>
              </a:rPr>
              <a:t>وصفاً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كلَّ قــولٍ أو  نــــداءْ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57640" y="0"/>
            <a:ext cx="4973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4038480" cy="9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قد ربطت وضرب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 مثل أدنى  الآث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بسياط قد جلدت         مثل شرً المجرم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كل هذا من جراكـم     كي تكونوا سالميـ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انظروني هل رأيتـم  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شبه ذا  تحت السمــ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11:06Z</dcterms:created>
  <dc:creator>SUZANNE.MD</dc:creator>
  <dc:description/>
  <dc:language>en-US</dc:language>
  <cp:lastModifiedBy>HANI SAFI</cp:lastModifiedBy>
  <dcterms:modified xsi:type="dcterms:W3CDTF">2003-04-18T05:48:39Z</dcterms:modified>
  <cp:revision>2</cp:revision>
  <dc:subject/>
  <dc:title>PowerPoint Presentation</dc:title>
</cp:coreProperties>
</file>